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F39-F4E9-4430-A3F9-46E22637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38E-A5C5-4702-A29F-3270078F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3CA-5D2F-436F-ADFD-BA50C9B7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A2C-13B7-4BCC-A8C8-E140EF43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D254-1D0C-4B1D-9D31-1059DCDC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4958-1A60-47C8-A900-1EDB5773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C55A-0725-462D-BB13-70043873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C65B-9EDA-4A4C-A72D-ABD476AC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DB0E-D58A-4693-9A66-5D8AE83A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1178-EC56-43C1-B2D2-64F4784C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D4E8-9A38-417F-ABCB-1ADE3C6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80D-E955-4CF8-8E4F-10BDFCA2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E259-087F-46E7-A9CD-582D63B8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1B82-A7F3-4014-BA56-DD1DDF87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D2C0-6931-4E54-9C1B-690C1E1B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86AE-B5C4-4504-9F97-1F16716E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D4D1-24AC-463C-ADA9-8F4021C4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17F-360D-440A-95E2-314C3018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B2E-31FC-4653-A6DA-12FD9FA0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E1E-2F8A-4479-81F6-72F66E03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295-B449-43B9-9496-08841FA3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52F-E1EB-49E9-8DFA-7E63043E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861-05E6-44B3-BCB5-3F9DDE06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AAB-F728-42BB-B559-F0838B4C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9C25-421A-4A96-B74A-FDC840187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AEC0-2071-480F-AC96-EBCDD87EE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3980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pic 1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merican Ident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oad to Independe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pic 3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ew American Ident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pic 4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velopment of th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Co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1680"/>
            <a:ext cx="7081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iddl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Y, PA, NJ,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griculture,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outhern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D, VA, NC, SC, 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rge-scale Agricul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la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Self Government (Govern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Colonial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rcanti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axes (why?) Statutory 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Quartering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mp 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oston Mass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axation without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clamation Act of 17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3840" y="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99520" y="282600"/>
            <a:ext cx="5752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Pro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oy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oston Tea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omas Paine; Common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ovement to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inental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claration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urpose of Gov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nsent of the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Revolutionary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“Shot heard round the wor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eaty of Paris 17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ain Point/Summ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35920" y="228600"/>
            <a:ext cx="8463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3: New American Ident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et-up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: NH, Coverted Ch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: Articles of Con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First Constitution Ra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Accomplis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W Ordinance of 17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en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regulate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single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national cou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Hard to amend/fix/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Shay’s Rebe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87440" y="282600"/>
            <a:ext cx="7894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New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hiladelphia Convention/Constitutional Con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legates, e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orge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irginia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cameral;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ew Jersey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nicameral; Eq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reat/Connecticut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ca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use;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nate;Eq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lav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ree-Fifths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9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480" y="263520"/>
            <a:ext cx="471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ed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nti-Fed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ajority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Main Point/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987480" y="0"/>
            <a:ext cx="10941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4: Development of the Constitu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ressed v. Reserved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reau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oral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 Legisla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Necessary &amp; Proper Clause (E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I Execu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II 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V-VII Other issues (IV-Supremacy Cl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7320" y="262080"/>
            <a:ext cx="7009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1-10 Bill of Rights, 11-27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2/3 approval to ac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rict v. L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mplied v. Ex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Right to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ule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veryone must follow th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eparation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ree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hecks &amp; 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mite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453240" y="304920"/>
            <a:ext cx="10103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Fede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pressed/Enum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n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age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upre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First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ligion, Assembly, Press, Petition,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ens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John Peter Z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lander, Libel,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304920"/>
            <a:ext cx="2971800" cy="3429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3080" y="533520"/>
            <a:ext cx="702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2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ght to Bear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 Quartering of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arch &amp;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u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lf Incri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uble Jeop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minen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Rights of the Ac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Rights in civil cases; Jury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Cruel &amp; Unusual Punishment; B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Rights reserved to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Rights reserved to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ummary/Main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81320" y="301680"/>
            <a:ext cx="666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. Amendments 11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Limits on suits agains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Presidential Ele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ivil War Amend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Abolished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Citizenship &amp; Equ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African-America right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Progressive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Election of Senators by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 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 Women’s right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376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067040" y="133200"/>
            <a:ext cx="102538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1: American 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Study of the rights and duties of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articipant’s right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Ruling authority for a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Keep order,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Public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Guid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orn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atur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liens &amp; 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ivil Rights &amp;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mmunity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Loss of 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raud or d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eason,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440" y="320760"/>
            <a:ext cx="597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 Lame Duck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. Repeal 18th;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 Presidents limited to two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. Washington D.C. gets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 Elimination of the poll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 Presidential Su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. 18 y.o. voting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. Congressional salary pay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. Civil Rights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13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iscrimination/Segre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ffirmative Action/Racial Pro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I. Summary/Mai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880" y="304920"/>
            <a:ext cx="6534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Freedom of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. “Ignorance is no excu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conomic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arc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formed Citize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ther type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ctatorship/Authorit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Civic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379440" y="228600"/>
            <a:ext cx="887004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Im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ld 1600-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urop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f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ew 1900-2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t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rvic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ast-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uth-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rth-S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atriotism, Na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mmon Goals: Against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4120" y="1219320"/>
            <a:ext cx="832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rican colonies were sett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ndividuals from many n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theless, the majority of American settl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from Eng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 rights that American citizens enjo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traced to the political and legal traditions of Eng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glish people began settling in the Americ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rought with them a tradition of lim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presentative Govern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4760" y="4381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Reading! Read Careful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80880"/>
            <a:ext cx="51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49480" y="246240"/>
            <a:ext cx="7547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2: Road to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s of America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nglish Heri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Magna C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nlighte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John Lo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Natura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Common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ocial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Separation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el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Limi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525600"/>
            <a:ext cx="8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00" y="3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7200" y="506520"/>
            <a:ext cx="619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The First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Jamestown 16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Ch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wn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Virginia House of Burg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ayflower 1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ilgrims/Purit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yflower Co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ligious Pers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riangular T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ative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Th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New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A, RI, NH, 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wns, Ship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386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00:24:39Z</dcterms:created>
  <dc:creator>Chatham County</dc:creator>
  <dc:description/>
  <dc:language>en-US</dc:language>
  <cp:lastModifiedBy>Chatham County</cp:lastModifiedBy>
  <cp:lastPrinted>2010-08-31T16:07:59Z</cp:lastPrinted>
  <dcterms:modified xsi:type="dcterms:W3CDTF">2010-09-02T12:36:49Z</dcterms:modified>
  <cp:revision>7</cp:revision>
  <dc:subject/>
  <dc:title>Citizenship &amp; Democracy U.S. History-1789</dc:title>
</cp:coreProperties>
</file>